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5192-E69E-4A44-ABF0-8D231398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91F0-3621-4336-868A-2EFFCC70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02F0-7296-49BA-903F-D03F6E70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C5E8-D843-4C05-A7F0-3117EF8D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3C4B-3A8A-48D5-8BC0-1245C46F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9EE8-0507-48B0-90FE-02760601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224E-EFCF-4E1A-8237-898DFA3C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73FB-4C7C-459C-AE01-9803DB5A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5211-7849-4A1C-B8AF-46A5A170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46F0-4FA4-4403-813B-9EFF59E8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3FC7-378E-4DC5-A35B-FFC0C954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3894-03CF-407D-9263-00512F45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D566-2BDB-4235-9D49-621288DC1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676440"/>
            <a:ext cx="2305080" cy="1527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90920" y="657360"/>
            <a:ext cx="2292120" cy="1539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100480" y="676440"/>
            <a:ext cx="2314800" cy="143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38240" y="2570040"/>
            <a:ext cx="2257200" cy="1484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657520" y="2496960"/>
            <a:ext cx="2251080" cy="1467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105520" y="2496960"/>
            <a:ext cx="2290680" cy="1384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08000" y="22320"/>
            <a:ext cx="5384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How many colours can you se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85880" y="4297320"/>
            <a:ext cx="483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Which colours can you see? Say them to a frien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3:19:57Z</dcterms:created>
  <dc:creator>Helen</dc:creator>
  <dc:description/>
  <dc:language>en-US</dc:language>
  <cp:lastModifiedBy>Helen</cp:lastModifiedBy>
  <dcterms:modified xsi:type="dcterms:W3CDTF">2010-05-22T13:20:53Z</dcterms:modified>
  <cp:revision>2</cp:revision>
  <dc:subject/>
  <dc:title>Slide 1</dc:title>
</cp:coreProperties>
</file>